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1BE-60EF-4A84-B4E3-81524E00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19F-B2EC-482F-85FD-8BA87728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929-4C8F-4D43-A93D-D0CBC8B2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7C0-CAEC-4D15-8632-CAA27AC9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64E8-339F-456E-99B9-75B826F8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986-8FF3-455B-8723-BCC1DC6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1DF-8BA7-491A-B5A4-30104E2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6C87-9344-4727-8438-ED433C9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3DC-9B93-43A5-B299-F2623E0A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855-6756-44EF-8868-9D75E6B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56E2-73A5-4D63-A16F-1D18942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810-B4D9-4313-9AF9-F4055D4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20C5-A0E9-45BD-AB18-7E18A65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89A-0ED0-4AB0-B28A-3D03CEB3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9E7D-DBA0-4C8C-B3CF-62B7947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814-8EE8-48C0-A100-8D1E3242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1FB-F178-4D62-98FC-402B7CD9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A4D5-1E24-40DD-95DB-755669E1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D226-0195-4D59-8032-351E7A6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AE06-0FCA-49FE-8239-796A711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D867-CADE-4982-A47D-AD99349A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E47E-5B93-4F4F-A89C-C85E0AB3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A61-03C7-4622-8507-59C55978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F6B9-C850-4295-B53E-4A660C67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556A-C504-49DF-87AF-0B0E973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F81E-E779-41A1-AC09-69FD848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1586-A839-499B-9033-923CFC7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CFFA-0B0F-451B-9B97-358658A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8A3C-D0C9-4743-8749-4901310E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3E21-D136-4F99-A953-2F2A8EF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B15A-F853-47B9-8D0E-61453E1A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2A41-8F03-4D99-83ED-CF7871F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6E02-AD7A-4E92-A319-CABB363C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F58-6DE2-4E03-9529-AB64502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0478-195D-4E8F-9249-366D504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7D52-28A1-4923-AEFC-EBD6B637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9596-D3F4-4688-B508-FA3AF262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6E27-7788-4621-A7DA-C6F1E92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B41B-324B-4124-B937-346F285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D572-3485-4662-9BFE-907E7E0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E9BC-6E9D-4E57-A058-EDC0530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B914-28B3-45C3-999C-A40A1F03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D86E-988B-4986-9B84-DE49C6D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25D-F920-4FDE-A04B-B3D59C8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F97-2534-44F1-AD81-61D094EE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D30-7C49-4935-9DB4-F34C53F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593-6EED-4E5B-A499-DECEF92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EE9-FA01-4679-8BA8-F089D65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266D-F42B-4623-A409-289E4519EBA1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67C-829E-4CF9-BF77-5787E28AC2AA}" type="slidenum"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FBE-E3C3-465A-90BF-F3C7A926082B}" type="slidenum"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F947-EF4E-494B-9039-A75586A82DC2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395360"/>
            <a:ext cx="7589880" cy="46148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2653920" y="5786280"/>
            <a:ext cx="44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6ba"/>
                </a:solidFill>
                <a:latin typeface="Times New Roman"/>
                <a:ea typeface="Times New Roman"/>
              </a:rPr>
              <a:t>Выполнил студент 143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6ba"/>
                </a:solidFill>
                <a:latin typeface="Times New Roman"/>
                <a:ea typeface="Times New Roman"/>
              </a:rPr>
              <a:t>Фомин 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441080" y="14292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 почему же светит Сол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2357280" cy="2489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2643120" y="714240"/>
            <a:ext cx="628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энергия образуется в процессе термоядерного синтеза. Под воздействием чудовищного давления в центре Солнца атомы водорода настолько сближаются, что их ядра начинают соединяться друг с другом. В результате из четырех водородных ядер, получается (синтезируется) одно ядро гелия. При этом выделяется огромное количество энергии! Иначе говоря, Солнце светит благодаря тому, что в его недрах каждую секунду 584 миллиона тонн водорода превращается в 560 миллионов тонн г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357120"/>
            <a:ext cx="87868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ое о 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це в 750 раз превосходит по массе все остальные тела Солнечной системы вместе взятые. На солнечном диаметре можно было бы разместить цепочку из 109 таких планет, как н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ждую секунду на поверхность Земли Солнце изливает энергию, для выработки которой потребовалось бы 150 миллионов мощных 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Ежесекундно с его поверхности излучается такое количество тепла, которого было бы вполне достаточно, чтобы растопить слой льда толщиной в тысячу километров, окружающий шар, равный по размерам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1619280" y="0"/>
            <a:ext cx="633744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4105080" cy="482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4572000" y="1773360"/>
            <a:ext cx="435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4"/>
          <p:cNvSpPr/>
          <p:nvPr/>
        </p:nvSpPr>
        <p:spPr>
          <a:xfrm>
            <a:off x="357120" y="428760"/>
            <a:ext cx="84297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автора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ект рассчитан для учащихся 10 – 11 классов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может быть применен при изучении тем по физике, связанных с энергией, а также при изучении курса астрономии. В процессе изучения проекта учащиеся познакомятся со строением Солнца, с солнечной энергией, выполнят несколько лабораторных работ и в конце сделают вывод, будет ли солнечная энергия – энергией будущего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53708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7"/>
          <p:cNvSpPr txBox="1"/>
          <p:nvPr/>
        </p:nvSpPr>
        <p:spPr>
          <a:xfrm>
            <a:off x="2556000" y="486900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Удачи вам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00040" y="107172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ие специалисты полагают, что уже к 2020 году топлива потребуется в три с половиной раза больше, чем сегодня. Человечество с такой скоростью тратит ископаемые источники энергии, что восстанавливаться они никак не успевают. Пора бы и задуматься о замене "ископаемой энергии". Где же брать энерг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57120" y="428760"/>
            <a:ext cx="8358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изучения проекта в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   Расширите свои знания о Солнце, о вращении Земли вокруг Солнца и своей оси, о пользе и его вредных воздействиях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  Поймете, что без Солнца человек не смог бы достичь даже самой малой доли того, что он сейчас умеет дел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 Поставите перед собой проблему о альтернативных источниках энерг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57120" y="42876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   Познакомитесь с понятием «проблема», научитесь выявлять проблему, проектировать ее решение и исслед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  Научитесь отбирать нужный по теме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 Научитесь высказывать свое мнение, анализировать, видеть главное, делать 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571680" y="71424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полагающий вопро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мы будем делать, когда закончится «черное золото»?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57120" y="642960"/>
            <a:ext cx="84297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е вопрос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ционально ли используют в России нефть и г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олго ли хватит нефти и г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менит нам нефть и газ в будущ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стало бы с Землей, если бы Солнце пога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менит ли нам Солнце нефть и г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Солнце гре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357120" y="78588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е вопрос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акие источники энергии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Что вы знаете о солнечной энерг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Солнце – в чем его вред и поль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Солнечный свет  - что это тако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864720" y="714240"/>
            <a:ext cx="78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можно «поймать» солнечную энерг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4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3500640" cy="285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635200" cy="2357280"/>
          </a:xfrm>
          <a:prstGeom prst="rect">
            <a:avLst/>
          </a:prstGeom>
          <a:ln w="0">
            <a:noFill/>
          </a:ln>
        </p:spPr>
      </p:pic>
      <p:sp>
        <p:nvSpPr>
          <p:cNvPr id="207" name="Стрелка вправо 6"/>
          <p:cNvSpPr/>
          <p:nvPr/>
        </p:nvSpPr>
        <p:spPr>
          <a:xfrm rot="20743800">
            <a:off x="2991960" y="3474720"/>
            <a:ext cx="2721240" cy="27288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право 9"/>
          <p:cNvSpPr/>
          <p:nvPr/>
        </p:nvSpPr>
        <p:spPr>
          <a:xfrm rot="1350000">
            <a:off x="2874600" y="4881600"/>
            <a:ext cx="2792520" cy="2746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6072120" y="1357200"/>
            <a:ext cx="2643120" cy="195768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право 12"/>
          <p:cNvSpPr/>
          <p:nvPr/>
        </p:nvSpPr>
        <p:spPr>
          <a:xfrm rot="20062200">
            <a:off x="2711520" y="2860200"/>
            <a:ext cx="2720880" cy="274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право 13"/>
          <p:cNvSpPr/>
          <p:nvPr/>
        </p:nvSpPr>
        <p:spPr>
          <a:xfrm rot="189600">
            <a:off x="3076560" y="4219560"/>
            <a:ext cx="2792520" cy="2746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2928960" y="13572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 – ветровая энерго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219120" y="57862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357120" y="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можно применить солнечную энергию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85840" y="2071800"/>
            <a:ext cx="2857320" cy="2190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6000840" y="2071800"/>
            <a:ext cx="2857320" cy="2190600"/>
          </a:xfrm>
          <a:prstGeom prst="rect">
            <a:avLst/>
          </a:prstGeom>
          <a:ln w="0">
            <a:noFill/>
          </a:ln>
        </p:spPr>
      </p:pic>
      <p:sp>
        <p:nvSpPr>
          <p:cNvPr id="218" name="Стрелка вверх 7"/>
          <p:cNvSpPr/>
          <p:nvPr/>
        </p:nvSpPr>
        <p:spPr>
          <a:xfrm rot="10800000">
            <a:off x="4500360" y="1357200"/>
            <a:ext cx="214200" cy="29289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0070c0"/>
          </a:solidFill>
          <a:ln w="399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лево 10"/>
          <p:cNvSpPr/>
          <p:nvPr/>
        </p:nvSpPr>
        <p:spPr>
          <a:xfrm rot="19201800">
            <a:off x="2643120" y="13568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2da2bf"/>
          </a:solidFill>
          <a:ln w="399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лево 11"/>
          <p:cNvSpPr/>
          <p:nvPr/>
        </p:nvSpPr>
        <p:spPr>
          <a:xfrm rot="12832200">
            <a:off x="5481720" y="13028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2da2bf"/>
          </a:solidFill>
          <a:ln w="399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4"/>
          <a:stretch/>
        </p:blipFill>
        <p:spPr>
          <a:xfrm>
            <a:off x="3143160" y="442908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07:54Z</dcterms:created>
  <dc:creator>Маша</dc:creator>
  <dc:description/>
  <dc:language>en-US</dc:language>
  <cp:lastModifiedBy>Маша</cp:lastModifiedBy>
  <dcterms:modified xsi:type="dcterms:W3CDTF">2010-04-19T15:32:54Z</dcterms:modified>
  <cp:revision>31</cp:revision>
  <dc:subject/>
  <dc:title>Слайд 1</dc:title>
</cp:coreProperties>
</file>